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EE0-8AC5-44CF-8256-FBD0E52D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DAE-0E79-45F3-B017-2511B9A6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AA5-1F8B-45FC-87FC-E98621CE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9B2-0A18-4D52-813F-27BC318F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C4AF-0A86-4F35-9B8E-B267ABAD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4822-88A1-42AE-80FD-0E879F49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85CE-B5D2-45CF-B56E-89FB922D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A823-D11C-448C-88B8-9912A8E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411B-345E-46C8-B9FA-4C824819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6B27-056A-4C65-8434-12FAC130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2969-195A-4CAE-AED0-C0754CC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1EE-6424-486E-912D-E316E4B4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AF3-FE36-4EEA-AC5F-5C9D974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2B32-B18E-47F2-B6E4-79BEECC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56EE-0FB5-42AC-A852-390A58FC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EC7-1569-4AF1-A604-15F682ED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00F1-18F9-4F0F-8737-DE03585C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8F9-E682-428E-9675-64F34E8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A3F-DA9E-4475-8DB4-A48323D1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2CA-D9E5-4CCA-82B2-1F778B34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3B3-F313-46AB-88D8-6B6367C2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FAD-7559-46DA-ADD8-ABA0926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09E-E6B1-4830-9BA4-7518FC9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D4D-5731-4A5C-831F-12C7F80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16B9-5A4E-4E4B-8972-B6BEED7AD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E0FB-70B9-4967-9F9E-643371257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cc"/>
                </a:solidFill>
                <a:latin typeface="Book Antiqua"/>
              </a:rPr>
              <a:t>The Present Subjunctive </a:t>
            </a:r>
            <a:endParaRPr b="0" lang="en-US" sz="6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alidades 3 p 13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ersonal expressions ( when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1 pers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s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someone or somet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ct/happen) The first subject uses the </a:t>
            </a:r>
            <a:r>
              <a:rPr b="0" lang="en-US" sz="3200" spc="-1" strike="noStrike" u="sng">
                <a:solidFill>
                  <a:srgbClr val="00cccc"/>
                </a:solidFill>
                <a:uFillTx/>
                <a:latin typeface="Arial"/>
              </a:rPr>
              <a:t>present indica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 (recommendation, suggestion, want/wish etc…) + </a:t>
            </a:r>
            <a:r>
              <a:rPr b="0" lang="en-US" sz="3200" spc="-1" strike="noStrike" u="sng">
                <a:solidFill>
                  <a:srgbClr val="00cccc"/>
                </a:solidFill>
                <a:uFillTx/>
                <a:latin typeface="Arial"/>
              </a:rPr>
              <a:t>q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second subject uses the </a:t>
            </a:r>
            <a:r>
              <a:rPr b="0" lang="en-US" sz="3200" spc="-1" strike="noStrike" u="sng">
                <a:solidFill>
                  <a:srgbClr val="00cccc"/>
                </a:solidFill>
                <a:uFillTx/>
                <a:latin typeface="Arial"/>
              </a:rPr>
              <a:t>present subjun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 (what should happ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029200" y="6172200"/>
            <a:ext cx="358128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verbs used in personal expressions followed by que + subjuncti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er ( e&gt;i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ir (e &gt; i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nsej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267080" y="335268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g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recomenda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 &gt; i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erir (e &gt; 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s recomendamos </a:t>
            </a:r>
            <a:r>
              <a:rPr b="1" lang="en-US" sz="4800" spc="-1" strike="noStrike">
                <a:solidFill>
                  <a:srgbClr val="00cccc"/>
                </a:solidFill>
                <a:latin typeface="Arial"/>
              </a:rPr>
              <a:t>que Uds. hable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con un agente de viaj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e recommend </a:t>
            </a:r>
            <a:r>
              <a:rPr b="1" i="1" lang="en-US" sz="4800" spc="-1" strike="noStrike">
                <a:solidFill>
                  <a:srgbClr val="00cccc"/>
                </a:solidFill>
                <a:latin typeface="Arial"/>
              </a:rPr>
              <a:t>that you speak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 with a travel ag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¿Quiere Ud. </a:t>
            </a:r>
            <a:r>
              <a:rPr b="1" lang="en-US" sz="4800" spc="-1" strike="noStrike">
                <a:solidFill>
                  <a:srgbClr val="00cccc"/>
                </a:solidFill>
                <a:latin typeface="Arial"/>
              </a:rPr>
              <a:t>que escribamo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nuestros nombres en las maleta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o you want </a:t>
            </a:r>
            <a:r>
              <a:rPr b="1" i="1" lang="en-US" sz="4800" spc="-1" strike="noStrike">
                <a:solidFill>
                  <a:srgbClr val="00cccc"/>
                </a:solidFill>
                <a:latin typeface="Arial"/>
              </a:rPr>
              <a:t>us to write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 our names on our suitcas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4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2971800" y="2057400"/>
            <a:ext cx="6172200" cy="6858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1981080"/>
            <a:ext cx="3048120" cy="83844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Book Antiqua"/>
              </a:rPr>
              <a:t>2 Clauses w/ impersonal expressions</a:t>
            </a:r>
            <a:endParaRPr b="0" lang="en-US" sz="36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 bueno    que yo aprenda francé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447920" y="30477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28600" y="3657600"/>
            <a:ext cx="228600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 clau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tands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ect &gt;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3581280" y="28191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743200" y="3657600"/>
            <a:ext cx="152388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arated by the word “qu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4"/>
          <p:cNvSpPr/>
          <p:nvPr/>
        </p:nvSpPr>
        <p:spPr>
          <a:xfrm rot="5326200">
            <a:off x="5765760" y="294120"/>
            <a:ext cx="630360" cy="5638680"/>
          </a:xfrm>
          <a:custGeom>
            <a:avLst/>
            <a:gdLst>
              <a:gd name="textAreaLeft" fmla="*/ 0 w 630360"/>
              <a:gd name="textAreaRight" fmla="*/ 227520 w 63036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952880" y="3657600"/>
            <a:ext cx="33530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endent clause (can’t stand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gins with the word “que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57200" y="5791320"/>
            <a:ext cx="15238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867280" y="5334120"/>
            <a:ext cx="1828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unc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Book Antiqua"/>
              </a:rPr>
              <a:t>Impersonal Expressions that are followed by the subjunctive</a:t>
            </a:r>
            <a:endParaRPr b="0" lang="en-US" sz="28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bueno/malo que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importante que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mejor que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necesario que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e form the present subjunctive of most verbs the same way we form negative tú commands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op the -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of the present-tense indicative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form and add the subjunctive ending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-ar verb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, es, e, emos, éis, 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-er/-ir verb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, as, a, amos, áis, 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267080" y="5715000"/>
            <a:ext cx="34290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 far in Spanish we’ve been using verbs in the </a:t>
            </a:r>
            <a:r>
              <a:rPr b="0" i="1" lang="en-US" sz="4800" spc="-1" strike="noStrike">
                <a:solidFill>
                  <a:srgbClr val="00cccc"/>
                </a:solidFill>
                <a:latin typeface="Arial"/>
              </a:rPr>
              <a:t>indicative moo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 which is used to talk about facts or actual eve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181480" y="5410080"/>
            <a:ext cx="27432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HABLA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é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COME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á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VIVI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á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esent subjunctive has the </a:t>
            </a: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same spelling change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 the </a:t>
            </a: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negative tú command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09520"/>
            <a:ext cx="861084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rregular Subjunctive Verb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c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a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o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09520"/>
            <a:ext cx="861084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rregular Subjunctive Verb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243828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c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5909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735000" y="2514600"/>
            <a:ext cx="156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936480" y="251460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ag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563868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91440" y="411480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n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659040" y="4191120"/>
            <a:ext cx="17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859800" y="41911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eng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6386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2590920" y="434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HACE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á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Car, Gar Zar verbs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legar:   llegue, llegues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car:  saque, saques 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morzar:almuerce, almuerces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rregular Subjunctive Verb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   dé, des, dé demos, deis, 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    sea, seas, sea, seamos, seáis, s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vaya, vayas, vaya vayamos, vayáis, vay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r   esté, estés, esté estemos, estéis, esté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ber sepa, sepas, sepa, sepamos, sepáis, se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Haber haya, hayas, haya, hayamos, hayáis, hay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Book Antiqua"/>
              </a:rPr>
              <a:t>Sentences in the indicative mood</a:t>
            </a:r>
            <a:endParaRPr b="0" lang="en-US" sz="48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ñana voy al c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yer, comimos pizz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 hermano siempre lloraba cuando íbamos a la escuel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 has hecho la tarea y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anish has another mood called the …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8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cccc"/>
                </a:solidFill>
                <a:latin typeface="Arial"/>
              </a:rPr>
              <a:t>subjunctive mood”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junctive mood is made up of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personal expression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certain verbs that express requests, wants, demands, suggestions,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Impersonal expression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importante que” “es necesario qu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rsonal Expressions require the Subjunctive mood when someone wants another person to do someth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sentence that includes the subjunctive form has two parts connected by the word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4876920" y="5486400"/>
            <a:ext cx="29718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2971800" y="2057400"/>
            <a:ext cx="6172200" cy="6858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981080"/>
            <a:ext cx="3048120" cy="83844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2 Clauses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la sugiere que yo aprenda francé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1447920" y="30477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28600" y="3657600"/>
            <a:ext cx="228600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 clau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tands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ect &gt;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3581280" y="28191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743200" y="3657600"/>
            <a:ext cx="152388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arated by the word “qu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 rot="5326200">
            <a:off x="5765760" y="294120"/>
            <a:ext cx="630360" cy="5638680"/>
          </a:xfrm>
          <a:custGeom>
            <a:avLst/>
            <a:gdLst>
              <a:gd name="textAreaLeft" fmla="*/ 0 w 630360"/>
              <a:gd name="textAreaRight" fmla="*/ 227520 w 63036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952880" y="3657600"/>
            <a:ext cx="33530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endent clause (can’t stand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gins with the word “que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7200" y="5791320"/>
            <a:ext cx="15238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5867280" y="5334120"/>
            <a:ext cx="1828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unc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e that the subjunctive sentences have two parts, each with a different subject, connected by the word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114800" y="5715000"/>
            <a:ext cx="358128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44:02Z</dcterms:created>
  <dc:creator>NIHS</dc:creator>
  <dc:description/>
  <dc:language>en-US</dc:language>
  <cp:lastModifiedBy>admin</cp:lastModifiedBy>
  <dcterms:modified xsi:type="dcterms:W3CDTF">2012-03-15T16:46:33Z</dcterms:modified>
  <cp:revision>44</cp:revision>
  <dc:subject/>
  <dc:title>No Slide Title</dc:title>
</cp:coreProperties>
</file>